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BD2-45C4-4A85-8E2D-A01756CA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D15-6A06-4CC3-8727-198311C6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4BBC-2455-4922-9593-A5E289E9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A98-5AC9-4889-869E-15B9801C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DDB-2CB8-4A5D-AD2F-3B14A572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39B-240C-43FA-BB65-AA31DA19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EC3-C43C-4F08-AF6E-1FC08200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96DD-65A1-4060-8B09-AB41E078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2AEB-E96C-44AE-A631-FE8F49DF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0CDA-D7D3-4656-A110-7F361930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84D-743E-4217-AD16-3BB05F60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A98D-666E-4774-8321-A8BA3FA1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2F72-3EC7-4D58-AC8B-64308D1A39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2"/>
          <a:stretch/>
        </p:blipFill>
        <p:spPr>
          <a:xfrm>
            <a:off x="1979640" y="189000"/>
            <a:ext cx="5302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2:18:29Z</dcterms:created>
  <dc:creator>1</dc:creator>
  <dc:description/>
  <dc:language>en-US</dc:language>
  <cp:lastModifiedBy>Элеонора</cp:lastModifiedBy>
  <dcterms:modified xsi:type="dcterms:W3CDTF">2013-01-24T14:50:11Z</dcterms:modified>
  <cp:revision>1</cp:revision>
  <dc:subject/>
  <dc:title>Слайд 1</dc:title>
</cp:coreProperties>
</file>